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D44C-ABC2-4F1F-87A8-D9143E13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D8BE-E6A6-40BE-BFF4-6561E17F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846-8E42-4448-8A4C-90200F36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10B-B522-4A1E-884C-4187EB90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2B3-1BFE-4B2F-B451-A4F023E4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4227-3A30-4865-965F-0D47D3E2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9ECE-DBD0-4DE3-8A24-B493504D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D54-A324-41EC-8D78-93FB71CB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317-FC43-4D5B-87AC-7344824C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383-0B6B-48EB-963B-1405303D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F82-86D4-4771-841E-7D6B9C2C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719B-D0B5-4FBA-BF47-26419370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78C2-F628-4777-824B-916B6169E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7"/>
          <p:cNvSpPr/>
          <p:nvPr/>
        </p:nvSpPr>
        <p:spPr>
          <a:xfrm>
            <a:off x="3071880" y="0"/>
            <a:ext cx="6072120" cy="6858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0" y="0"/>
            <a:ext cx="3071880" cy="6858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4"/>
          <p:cNvSpPr/>
          <p:nvPr/>
        </p:nvSpPr>
        <p:spPr>
          <a:xfrm>
            <a:off x="214200" y="285840"/>
            <a:ext cx="8715600" cy="6284880"/>
          </a:xfrm>
          <a:prstGeom prst="roundRect">
            <a:avLst>
              <a:gd name="adj" fmla="val 965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6" descr="Многоцв_полн_монохр.bmp"/>
          <p:cNvPicPr/>
          <p:nvPr/>
        </p:nvPicPr>
        <p:blipFill>
          <a:blip r:embed="rId1"/>
          <a:stretch/>
        </p:blipFill>
        <p:spPr>
          <a:xfrm>
            <a:off x="0" y="0"/>
            <a:ext cx="2792520" cy="2590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237960" y="6215040"/>
            <a:ext cx="870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75d"/>
                </a:solidFill>
                <a:latin typeface="Arial"/>
              </a:rPr>
              <a:t>Кострома, 2012 г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4788000" y="4581360"/>
            <a:ext cx="398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ывает:  начальник отдела госкапвложений, инвестиционых проектов и программ  департамента ТЭК и ЖКХ Костромской област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В. Розов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1187280" y="2421000"/>
            <a:ext cx="737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зультатах работы правоохранительных и контролирующих органов Костромск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области по противодействию незаконному использованию финансовых ресурсов в сфере жилищно-коммунального хозяйст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3"/>
          <p:cNvGrpSpPr/>
          <p:nvPr/>
        </p:nvGrpSpPr>
        <p:grpSpPr>
          <a:xfrm>
            <a:off x="0" y="0"/>
            <a:ext cx="9251640" cy="6858000"/>
            <a:chOff x="0" y="0"/>
            <a:chExt cx="9251640" cy="6858000"/>
          </a:xfrm>
        </p:grpSpPr>
        <p:sp>
          <p:nvSpPr>
            <p:cNvPr id="127" name="Прямоугольник 7"/>
            <p:cNvSpPr/>
            <p:nvPr/>
          </p:nvSpPr>
          <p:spPr>
            <a:xfrm>
              <a:off x="3107880" y="0"/>
              <a:ext cx="6143760" cy="6858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рямоугольник 2"/>
            <p:cNvSpPr/>
            <p:nvPr/>
          </p:nvSpPr>
          <p:spPr>
            <a:xfrm>
              <a:off x="0" y="0"/>
              <a:ext cx="4357800" cy="6858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Скругленный прямоугольник 3"/>
            <p:cNvSpPr/>
            <p:nvPr/>
          </p:nvSpPr>
          <p:spPr>
            <a:xfrm>
              <a:off x="282600" y="857160"/>
              <a:ext cx="8672040" cy="5853240"/>
            </a:xfrm>
            <a:prstGeom prst="roundRect">
              <a:avLst>
                <a:gd name="adj" fmla="val 965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Рисунок 4" descr="Многоцв_полн_монохр.bmp"/>
            <p:cNvPicPr/>
            <p:nvPr/>
          </p:nvPicPr>
          <p:blipFill>
            <a:blip r:embed="rId1"/>
            <a:stretch/>
          </p:blipFill>
          <p:spPr>
            <a:xfrm>
              <a:off x="97920" y="66600"/>
              <a:ext cx="780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5"/>
            <p:cNvSpPr/>
            <p:nvPr/>
          </p:nvSpPr>
          <p:spPr>
            <a:xfrm>
              <a:off x="499320" y="0"/>
              <a:ext cx="3048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129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2" name=""/>
          <p:cNvGraphicFramePr/>
          <p:nvPr/>
        </p:nvGraphicFramePr>
        <p:xfrm>
          <a:off x="324000" y="1125360"/>
          <a:ext cx="8497800" cy="5256360"/>
        </p:xfrm>
        <a:graphic>
          <a:graphicData uri="http://schemas.openxmlformats.org/drawingml/2006/table">
            <a:tbl>
              <a:tblPr/>
              <a:tblGrid>
                <a:gridCol w="342720"/>
                <a:gridCol w="1314360"/>
                <a:gridCol w="863640"/>
                <a:gridCol w="3600360"/>
                <a:gridCol w="2376720"/>
              </a:tblGrid>
              <a:tr h="7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П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ющая компания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 Шарь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ными лицами МУП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ющая компания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ыли превышены должностные полномочия в результате чего причинен имущественный ущерб ОА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ГК-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сумму 2,6 млн.ру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4903 возбужденное по ч.1 ст. 201 УК РФ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комсерви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антуров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 ру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предприятия Стукалов Д.А. превысил свои служебные полномочия, необоснованно списал с лицевого счета МКД денежные средства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130 возбужденное 15.02.2012 г. по ч.1 ст. 201 УК РФ. Дело прекращено в связи с истечением давности привлечения виновного лица к ответственности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комсерви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антуров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5 ру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предприятия Стукалов Д.А. превысил свои служебные полномочия, необоснованно списал с лицевого счета МКД денежные средства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131 возбужденное 16.02.2012 г. по ч.1 ст. 201 УК РФ. Дело прекращено в связи с истечением давности привлечения виновного лица к ответственности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ющая компания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ождение жилищного фонд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 Костром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8 205 ру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ышение стоимости выполненных ремонтно-строительных работ по двум обьектам  (ул. Шагова 24, ул. Симановского 7/24) на сумму 29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 руб.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ядным организациям предложено возместить суммы переплаты стоимости выполненных работ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ромской дом+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 Костром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 ру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ышение сметной стоимости и стоимости по актам выполненных работ в связи с применением повышенного индекса изменения сметной стоимости для перерасчета в текущий уровень цен на II квартал 2011 года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 Представление от 22.06.2012 г. №41-06-07/80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 Град Строй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 Нерехт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 ру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ышение объемов выполненных работ по ремонту кровли на объекте г. Нерехта, пр-кт Текстильщиков, д. 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ядчику рекомендовано выполнить дополнительно работы, на сумму завышения объемов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Oval 76"/>
          <p:cNvSpPr/>
          <p:nvPr/>
        </p:nvSpPr>
        <p:spPr>
          <a:xfrm>
            <a:off x="8567640" y="6497640"/>
            <a:ext cx="576360" cy="3603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13"/>
          <p:cNvGrpSpPr/>
          <p:nvPr/>
        </p:nvGrpSpPr>
        <p:grpSpPr>
          <a:xfrm>
            <a:off x="0" y="0"/>
            <a:ext cx="9251640" cy="6858000"/>
            <a:chOff x="0" y="0"/>
            <a:chExt cx="9251640" cy="6858000"/>
          </a:xfrm>
        </p:grpSpPr>
        <p:sp>
          <p:nvSpPr>
            <p:cNvPr id="135" name="Прямоугольник 7"/>
            <p:cNvSpPr/>
            <p:nvPr/>
          </p:nvSpPr>
          <p:spPr>
            <a:xfrm>
              <a:off x="3107880" y="0"/>
              <a:ext cx="6143760" cy="6858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рямоугольник 2"/>
            <p:cNvSpPr/>
            <p:nvPr/>
          </p:nvSpPr>
          <p:spPr>
            <a:xfrm>
              <a:off x="0" y="0"/>
              <a:ext cx="4357800" cy="6858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Скругленный прямоугольник 3"/>
            <p:cNvSpPr/>
            <p:nvPr/>
          </p:nvSpPr>
          <p:spPr>
            <a:xfrm>
              <a:off x="282600" y="857160"/>
              <a:ext cx="8672040" cy="5853240"/>
            </a:xfrm>
            <a:prstGeom prst="roundRect">
              <a:avLst>
                <a:gd name="adj" fmla="val 965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Рисунок 4" descr="Многоцв_полн_монохр.bmp"/>
            <p:cNvPicPr/>
            <p:nvPr/>
          </p:nvPicPr>
          <p:blipFill>
            <a:blip r:embed="rId1"/>
            <a:stretch/>
          </p:blipFill>
          <p:spPr>
            <a:xfrm>
              <a:off x="97920" y="66600"/>
              <a:ext cx="780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5"/>
            <p:cNvSpPr/>
            <p:nvPr/>
          </p:nvSpPr>
          <p:spPr>
            <a:xfrm>
              <a:off x="499320" y="0"/>
              <a:ext cx="3048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129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0" name=""/>
          <p:cNvGraphicFramePr/>
          <p:nvPr/>
        </p:nvGraphicFramePr>
        <p:xfrm>
          <a:off x="324000" y="1052640"/>
          <a:ext cx="8497800" cy="4663800"/>
        </p:xfrm>
        <a:graphic>
          <a:graphicData uri="http://schemas.openxmlformats.org/drawingml/2006/table">
            <a:tbl>
              <a:tblPr/>
              <a:tblGrid>
                <a:gridCol w="342720"/>
                <a:gridCol w="1314360"/>
                <a:gridCol w="863640"/>
                <a:gridCol w="3456000"/>
                <a:gridCol w="2521080"/>
              </a:tblGrid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УК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ик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 Мантуров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21 тыс. ру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ышение должностных полномочий при осуществлении расчетов со стороны руководителя УК Стукалова Д.А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5531 возбужденное 10.02.2011 г. по ч.1 ст. 201 УК РФ направленно с обвинительным заключением в суд. По результатам рассмотрения в суде, уголовное дело было прекращено за примирением сторон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 УК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ик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 Мантуров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,549 тыс. ру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предприятия Стукалов Д.А., причинил имущественный ущерб без цели хищения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бужденное уголовное дело №5611 по ч.1 ст.165 УКРФ прекращено в связи с истечением сроков давности привлечения к ответственности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 СМЗ по ЖКХ г. Костром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ными лицами МУ СМЗ по ЖКХ причинен имущественных ущерб ОА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ГК-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сумму 3,6 млн. руб. в связи с неоплатой имеющейся кредиторской задолженности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62747 возбужденное 13.11.2011 г. по ч.3 ст.165 УК РФ. В настоящее время дело находится в производстве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 СМЗ по ЖКХ г. Костром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 ру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ьник службы надзора за капитальным ремонтом Термакова И.В. халатно отнеслась к исполнению служебных обязанностей при осуществлении контроля за ремонтом кровли дома №1а по ул. Ленина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62750 возбужденное 15.11.2011г. прекращено по истечению сроков давности привлечения к уголовной ответственности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УК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 г. Кострома дом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ными лицами ООО УК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 дом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чинен имущественный ущерб ОА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ГК-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сумму 3,9 млн. руб. в связи с неоплатой имеющейся кредиторской задолженности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51144 возбужденное 14.11.2011г. по ч.3 ст. 165 УК РФ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УК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ий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 Костром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ными лицами ООО УК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ский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чинен имущественный ущерб ОА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ГК-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сумму 9,9 млн. руб. в связи с неоплатой имеющейся кредиторской задолженности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55493 возбужденное 14.11.2011г. по ч.3 ст. 165 УК РФ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Oval 76"/>
          <p:cNvSpPr/>
          <p:nvPr/>
        </p:nvSpPr>
        <p:spPr>
          <a:xfrm>
            <a:off x="8567640" y="6497640"/>
            <a:ext cx="576360" cy="3603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13"/>
          <p:cNvGrpSpPr/>
          <p:nvPr/>
        </p:nvGrpSpPr>
        <p:grpSpPr>
          <a:xfrm>
            <a:off x="0" y="0"/>
            <a:ext cx="9251640" cy="6858000"/>
            <a:chOff x="0" y="0"/>
            <a:chExt cx="9251640" cy="6858000"/>
          </a:xfrm>
        </p:grpSpPr>
        <p:sp>
          <p:nvSpPr>
            <p:cNvPr id="143" name="Прямоугольник 7"/>
            <p:cNvSpPr/>
            <p:nvPr/>
          </p:nvSpPr>
          <p:spPr>
            <a:xfrm>
              <a:off x="3107880" y="0"/>
              <a:ext cx="6143760" cy="6858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оугольник 2"/>
            <p:cNvSpPr/>
            <p:nvPr/>
          </p:nvSpPr>
          <p:spPr>
            <a:xfrm>
              <a:off x="0" y="0"/>
              <a:ext cx="4357800" cy="6858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Скругленный прямоугольник 3"/>
            <p:cNvSpPr/>
            <p:nvPr/>
          </p:nvSpPr>
          <p:spPr>
            <a:xfrm>
              <a:off x="282600" y="857160"/>
              <a:ext cx="8672040" cy="5853240"/>
            </a:xfrm>
            <a:prstGeom prst="roundRect">
              <a:avLst>
                <a:gd name="adj" fmla="val 965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Рисунок 4" descr="Многоцв_полн_монохр.bmp"/>
            <p:cNvPicPr/>
            <p:nvPr/>
          </p:nvPicPr>
          <p:blipFill>
            <a:blip r:embed="rId1"/>
            <a:stretch/>
          </p:blipFill>
          <p:spPr>
            <a:xfrm>
              <a:off x="97920" y="66600"/>
              <a:ext cx="780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Box 5"/>
            <p:cNvSpPr/>
            <p:nvPr/>
          </p:nvSpPr>
          <p:spPr>
            <a:xfrm>
              <a:off x="499320" y="0"/>
              <a:ext cx="3048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129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8" name=""/>
          <p:cNvGraphicFramePr/>
          <p:nvPr/>
        </p:nvGraphicFramePr>
        <p:xfrm>
          <a:off x="324000" y="981000"/>
          <a:ext cx="8712000" cy="5632560"/>
        </p:xfrm>
        <a:graphic>
          <a:graphicData uri="http://schemas.openxmlformats.org/drawingml/2006/table">
            <a:tbl>
              <a:tblPr/>
              <a:tblGrid>
                <a:gridCol w="403200"/>
                <a:gridCol w="1468440"/>
                <a:gridCol w="1368360"/>
                <a:gridCol w="2592360"/>
                <a:gridCol w="287964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есурсоснабжающие организац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и, допустившей неправомерное расходование средств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неправомерно использованных финансовых средств в 2009-2012 годах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и существо выявленных нарушени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ые процессуальные решени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П ЖКХ п. Чистые Боры Буйский м/р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 ру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предприятия Дьячков В.Г. ненадлежащим образом исполнял служебные обязанности, в результате чего администрации причинен ущер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буждено уголовное дело №3324 по ч.1 ст. 293 УК РФ прекращено в связи с истечением сроков давности привлечения к ответственности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П  ЖКХ          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охомское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2 тыс. ру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щение  средств  со  стороны  директора  предприятия    Малютина Г.В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ые  дела № 2331, 2333, 2335 возбужденные 27.06.2011 по ч.3 ст.160 УКРФ 27.08.2011г. направлены обвинительным заключением в суд. По результатам рассмотрения в суде уголовных дел Малютин Г.В. был приговорен к 3-м годам лишения свободы условно с испытательным сроком 2 года. Суд обязал Малютина Г.В. возместить предприятию материальный ущер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П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овые котельные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расносельский м/р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предприятия Сбежнев П.М. сокрыл денежные средства и имущество предприятия от взыскания налоговой задолженности на сумму 1,9 млн. ру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6467 возбужденное 01.07.2011г. по ст. 199 УК РФ.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ник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туровский м/р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ом предприятия Седовым В.А. были предприняты попытки приведения в негодность обьекта коммунальной инфраструктуры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128 возбужденное 17.02.2012г. по ч.3 ст. 30 ч.2 ст. 215.2 УК РФ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П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энерго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Антроповский м/р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Подгурский Ю.Ю. присваивал денежные средства предприятия, которыми распоряжался по собственному усмотрению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ые дела №6914-6917, №6920-6922 возбужденные в марте 2012 г. по ч.3 ст. 160 УК РФ, дела направлены в суд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Oval 76"/>
          <p:cNvSpPr/>
          <p:nvPr/>
        </p:nvSpPr>
        <p:spPr>
          <a:xfrm>
            <a:off x="8567640" y="6497640"/>
            <a:ext cx="576360" cy="3603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3"/>
          <p:cNvGrpSpPr/>
          <p:nvPr/>
        </p:nvGrpSpPr>
        <p:grpSpPr>
          <a:xfrm>
            <a:off x="0" y="0"/>
            <a:ext cx="9251640" cy="6858000"/>
            <a:chOff x="0" y="0"/>
            <a:chExt cx="9251640" cy="6858000"/>
          </a:xfrm>
        </p:grpSpPr>
        <p:sp>
          <p:nvSpPr>
            <p:cNvPr id="151" name="Прямоугольник 7"/>
            <p:cNvSpPr/>
            <p:nvPr/>
          </p:nvSpPr>
          <p:spPr>
            <a:xfrm>
              <a:off x="3107880" y="0"/>
              <a:ext cx="6143760" cy="6858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Прямоугольник 2"/>
            <p:cNvSpPr/>
            <p:nvPr/>
          </p:nvSpPr>
          <p:spPr>
            <a:xfrm>
              <a:off x="0" y="0"/>
              <a:ext cx="4357800" cy="6858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Скругленный прямоугольник 3"/>
            <p:cNvSpPr/>
            <p:nvPr/>
          </p:nvSpPr>
          <p:spPr>
            <a:xfrm>
              <a:off x="282600" y="857160"/>
              <a:ext cx="8672040" cy="5853240"/>
            </a:xfrm>
            <a:prstGeom prst="roundRect">
              <a:avLst>
                <a:gd name="adj" fmla="val 965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Рисунок 4" descr="Многоцв_полн_монохр.bmp"/>
            <p:cNvPicPr/>
            <p:nvPr/>
          </p:nvPicPr>
          <p:blipFill>
            <a:blip r:embed="rId1"/>
            <a:stretch/>
          </p:blipFill>
          <p:spPr>
            <a:xfrm>
              <a:off x="97920" y="66600"/>
              <a:ext cx="780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5"/>
            <p:cNvSpPr/>
            <p:nvPr/>
          </p:nvSpPr>
          <p:spPr>
            <a:xfrm>
              <a:off x="499320" y="0"/>
              <a:ext cx="3048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129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6" name=""/>
          <p:cNvGraphicFramePr/>
          <p:nvPr/>
        </p:nvGraphicFramePr>
        <p:xfrm>
          <a:off x="468360" y="981000"/>
          <a:ext cx="8496360" cy="5284800"/>
        </p:xfrm>
        <a:graphic>
          <a:graphicData uri="http://schemas.openxmlformats.org/drawingml/2006/table">
            <a:tbl>
              <a:tblPr/>
              <a:tblGrid>
                <a:gridCol w="334800"/>
                <a:gridCol w="1905120"/>
                <a:gridCol w="1360440"/>
                <a:gridCol w="2313000"/>
                <a:gridCol w="2583000"/>
              </a:tblGrid>
              <a:tr h="82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П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е систем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стромской м/р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Высокоумов В.К. не выполнил обязанности налогового агента на сумму 3,5 млн. ру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9782 от 21.07.2012г. возбужденное по ч.1 ст. 199.1 УК РФ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А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ПО ЖКХ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ехтский м/р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подавала жителям населенных пунктов Елсна, Ежово питьевую воду, не отвечающую требованиям безопасности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15324 возбужденное 28.06.2012 г. по ч.1 ст. 238 УК РФ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сеть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туровский м/р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Попов С.А. не исполнил обязанности налогового агент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10614 возбужденное 05.05.2012 г. по ч.1 ст. 199.1 УК РФ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сеть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туровский м/р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Куриленко В.Ю. не исполнил обязанности налогового агент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10614 возбужденное 15.05.2012 г. по ч.1 ст. 199.1 УК РФ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сеть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туровский м/р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ство предприятия скрывало денежные средства и имущество предприятия за счет которых должна быть погашена задолженность по налогам на сумму 1,2 млн. руб.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10623 возбужденное 19.07.2012 г. по ст. 199.2 УК РФ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П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ское предприятие по благоустройству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тер предприятия Третьяков Б.Г. оплачивал адм. штраф за счет средств предприяти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ые дела №10897, 10902, 10903, возбужденные в апреле 2012 г. по ч.3 ст. 160 УК РФ, направлены в суд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П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ское предприятие по благоустройству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Хватов П.С. оплачивал адм. штраф за счет средств предприяти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11159 возбужденное 30.05.2012 г. по 4-м эпизодам по ч.3 ст. 160 УК РФ, дела направлены в суд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Oval 76"/>
          <p:cNvSpPr/>
          <p:nvPr/>
        </p:nvSpPr>
        <p:spPr>
          <a:xfrm>
            <a:off x="8567640" y="6497640"/>
            <a:ext cx="576360" cy="3603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3"/>
          <p:cNvGrpSpPr/>
          <p:nvPr/>
        </p:nvGrpSpPr>
        <p:grpSpPr>
          <a:xfrm>
            <a:off x="0" y="0"/>
            <a:ext cx="9251640" cy="6858000"/>
            <a:chOff x="0" y="0"/>
            <a:chExt cx="9251640" cy="6858000"/>
          </a:xfrm>
        </p:grpSpPr>
        <p:sp>
          <p:nvSpPr>
            <p:cNvPr id="159" name="Прямоугольник 7"/>
            <p:cNvSpPr/>
            <p:nvPr/>
          </p:nvSpPr>
          <p:spPr>
            <a:xfrm>
              <a:off x="3107880" y="0"/>
              <a:ext cx="6143760" cy="6858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Прямоугольник 2"/>
            <p:cNvSpPr/>
            <p:nvPr/>
          </p:nvSpPr>
          <p:spPr>
            <a:xfrm>
              <a:off x="0" y="0"/>
              <a:ext cx="4357800" cy="6858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Скругленный прямоугольник 3"/>
            <p:cNvSpPr/>
            <p:nvPr/>
          </p:nvSpPr>
          <p:spPr>
            <a:xfrm>
              <a:off x="282600" y="857160"/>
              <a:ext cx="8672040" cy="5853240"/>
            </a:xfrm>
            <a:prstGeom prst="roundRect">
              <a:avLst>
                <a:gd name="adj" fmla="val 965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Рисунок 4" descr="Многоцв_полн_монохр.bmp"/>
            <p:cNvPicPr/>
            <p:nvPr/>
          </p:nvPicPr>
          <p:blipFill>
            <a:blip r:embed="rId1"/>
            <a:stretch/>
          </p:blipFill>
          <p:spPr>
            <a:xfrm>
              <a:off x="97920" y="66600"/>
              <a:ext cx="780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5"/>
            <p:cNvSpPr/>
            <p:nvPr/>
          </p:nvSpPr>
          <p:spPr>
            <a:xfrm>
              <a:off x="499320" y="0"/>
              <a:ext cx="3048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129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4" name=""/>
          <p:cNvGraphicFramePr/>
          <p:nvPr/>
        </p:nvGraphicFramePr>
        <p:xfrm>
          <a:off x="395280" y="1419120"/>
          <a:ext cx="8353440" cy="4251600"/>
        </p:xfrm>
        <a:graphic>
          <a:graphicData uri="http://schemas.openxmlformats.org/drawingml/2006/table">
            <a:tbl>
              <a:tblPr/>
              <a:tblGrid>
                <a:gridCol w="396720"/>
                <a:gridCol w="1857600"/>
                <a:gridCol w="1324080"/>
                <a:gridCol w="2255760"/>
                <a:gridCol w="251928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Администрации муниципальных образова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и, допустившей неправомерное расходование средств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неправомерно использованных финансовых средств в 2009-2012 годах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и существо выявленных нарушени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ые процессуальные решени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 п. Сусанино Сусанинский м/р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2 ру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 администрации п. Сусаннино Серегина Т.П. ненадлежащим образом исполнила служебные обязанности при приеме работ на объекте ТСЖ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. К. Маркса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торые выполняло ОО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-Бел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 7519 возбужденное 02.09.2011 г. по ч. 1 ст. 293 УК РФ прекращено по истечению сроков давности привлечения к уголовной ответственности. Процессуальное решение принималось следователями следственного комитета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 г.Нерехта и Нерехтский р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ру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 неправомерный возврат суммы обеспечения конкурсной заявки организатором конкурса победителю конкурса ОО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отказавшемуся от заключения договорных отношени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но представление о ненадлежащем исполнении бюджетного процесса № 41-06-07/648 от 14.05.2012 года. Представление рассмотрено, представлена информация о недопущении впредь выявленных нарушений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121"/>
          <p:cNvSpPr/>
          <p:nvPr/>
        </p:nvSpPr>
        <p:spPr>
          <a:xfrm>
            <a:off x="0" y="543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76"/>
          <p:cNvSpPr/>
          <p:nvPr/>
        </p:nvSpPr>
        <p:spPr>
          <a:xfrm>
            <a:off x="8567640" y="6497640"/>
            <a:ext cx="576360" cy="3603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3"/>
          <p:cNvGrpSpPr/>
          <p:nvPr/>
        </p:nvGrpSpPr>
        <p:grpSpPr>
          <a:xfrm>
            <a:off x="0" y="0"/>
            <a:ext cx="9251640" cy="6858000"/>
            <a:chOff x="0" y="0"/>
            <a:chExt cx="9251640" cy="6858000"/>
          </a:xfrm>
        </p:grpSpPr>
        <p:sp>
          <p:nvSpPr>
            <p:cNvPr id="168" name="Прямоугольник 7"/>
            <p:cNvSpPr/>
            <p:nvPr/>
          </p:nvSpPr>
          <p:spPr>
            <a:xfrm>
              <a:off x="3107880" y="0"/>
              <a:ext cx="6143760" cy="6858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Прямоугольник 2"/>
            <p:cNvSpPr/>
            <p:nvPr/>
          </p:nvSpPr>
          <p:spPr>
            <a:xfrm>
              <a:off x="0" y="0"/>
              <a:ext cx="4357800" cy="6858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Скругленный прямоугольник 3"/>
            <p:cNvSpPr/>
            <p:nvPr/>
          </p:nvSpPr>
          <p:spPr>
            <a:xfrm>
              <a:off x="282600" y="857160"/>
              <a:ext cx="8672040" cy="5853240"/>
            </a:xfrm>
            <a:prstGeom prst="roundRect">
              <a:avLst>
                <a:gd name="adj" fmla="val 965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Рисунок 4" descr="Многоцв_полн_монохр.bmp"/>
            <p:cNvPicPr/>
            <p:nvPr/>
          </p:nvPicPr>
          <p:blipFill>
            <a:blip r:embed="rId1"/>
            <a:stretch/>
          </p:blipFill>
          <p:spPr>
            <a:xfrm>
              <a:off x="97920" y="66600"/>
              <a:ext cx="780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5"/>
            <p:cNvSpPr/>
            <p:nvPr/>
          </p:nvSpPr>
          <p:spPr>
            <a:xfrm>
              <a:off x="499320" y="0"/>
              <a:ext cx="3048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129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122"/>
          <p:cNvSpPr/>
          <p:nvPr/>
        </p:nvSpPr>
        <p:spPr>
          <a:xfrm>
            <a:off x="468360" y="2276640"/>
            <a:ext cx="813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3"/>
          <p:cNvGrpSpPr/>
          <p:nvPr/>
        </p:nvGrpSpPr>
        <p:grpSpPr>
          <a:xfrm>
            <a:off x="0" y="0"/>
            <a:ext cx="9251640" cy="6858000"/>
            <a:chOff x="0" y="0"/>
            <a:chExt cx="9251640" cy="6858000"/>
          </a:xfrm>
        </p:grpSpPr>
        <p:sp>
          <p:nvSpPr>
            <p:cNvPr id="49" name="Прямоугольник 7"/>
            <p:cNvSpPr/>
            <p:nvPr/>
          </p:nvSpPr>
          <p:spPr>
            <a:xfrm>
              <a:off x="3107880" y="0"/>
              <a:ext cx="6143760" cy="6858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рямоугольник 2"/>
            <p:cNvSpPr/>
            <p:nvPr/>
          </p:nvSpPr>
          <p:spPr>
            <a:xfrm>
              <a:off x="0" y="0"/>
              <a:ext cx="4357800" cy="6858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Скругленный прямоугольник 3"/>
            <p:cNvSpPr/>
            <p:nvPr/>
          </p:nvSpPr>
          <p:spPr>
            <a:xfrm>
              <a:off x="282600" y="857160"/>
              <a:ext cx="8672040" cy="5853240"/>
            </a:xfrm>
            <a:prstGeom prst="roundRect">
              <a:avLst>
                <a:gd name="adj" fmla="val 965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Рисунок 4" descr="Многоцв_полн_монохр.bmp"/>
            <p:cNvPicPr/>
            <p:nvPr/>
          </p:nvPicPr>
          <p:blipFill>
            <a:blip r:embed="rId1"/>
            <a:stretch/>
          </p:blipFill>
          <p:spPr>
            <a:xfrm>
              <a:off x="97920" y="66600"/>
              <a:ext cx="780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Box 5"/>
            <p:cNvSpPr/>
            <p:nvPr/>
          </p:nvSpPr>
          <p:spPr>
            <a:xfrm>
              <a:off x="499320" y="0"/>
              <a:ext cx="3048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129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Oval 76"/>
          <p:cNvSpPr/>
          <p:nvPr/>
        </p:nvSpPr>
        <p:spPr>
          <a:xfrm>
            <a:off x="8567640" y="6497640"/>
            <a:ext cx="576360" cy="3603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8"/>
          <p:cNvGraphicFramePr/>
          <p:nvPr/>
        </p:nvGraphicFramePr>
        <p:xfrm>
          <a:off x="10012320" y="6586560"/>
          <a:ext cx="244440" cy="17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12320" y="6586560"/>
                    <a:ext cx="24444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Скругленный прямоугольник 11"/>
          <p:cNvSpPr/>
          <p:nvPr/>
        </p:nvSpPr>
        <p:spPr>
          <a:xfrm>
            <a:off x="539640" y="836640"/>
            <a:ext cx="8064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ля исполнения поручения Президента РФ № 701 распоряжением губернатора Костромской области от 6 июля 2011 года № 708-р создана рабочая группа по проведению оценки эффективности использования организациями коммунального комплекса финансовых ресурсов, в которую вошли специалисты администрации области и контрольно-надзорных орган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11"/>
          <p:cNvSpPr/>
          <p:nvPr/>
        </p:nvSpPr>
        <p:spPr>
          <a:xfrm>
            <a:off x="539640" y="2492280"/>
            <a:ext cx="8209080" cy="410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рабочей группы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Главный федеральный инспектор в Костромской области  полномочного представителя Президента Российской Федерации в Центральном федеральном округ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Прокуратура Костромской обла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Управление внутренних дел по Костромской обла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Контрольно-счетная палата Костромской обла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Территориальное управление Федеральной службы финансово-бюджетного надзора в Костромской обла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топливно-энергетического комплекса и жилищно-коммунального хозяйства Костромской области 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артамент государственного регулирования цен и тарифов Костромской обла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Отдел по обеспечению конституционных прав граждан и взаимодействию с правоохранительными органами администрации  Костромской области 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Отдел контроля администрации Костромской обла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Департамент финансов Костромской обла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4356000" y="0"/>
            <a:ext cx="47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0"/>
          <p:cNvSpPr/>
          <p:nvPr/>
        </p:nvSpPr>
        <p:spPr>
          <a:xfrm>
            <a:off x="826920" y="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3"/>
          <p:cNvGrpSpPr/>
          <p:nvPr/>
        </p:nvGrpSpPr>
        <p:grpSpPr>
          <a:xfrm>
            <a:off x="0" y="0"/>
            <a:ext cx="9251640" cy="6858000"/>
            <a:chOff x="0" y="0"/>
            <a:chExt cx="9251640" cy="6858000"/>
          </a:xfrm>
        </p:grpSpPr>
        <p:sp>
          <p:nvSpPr>
            <p:cNvPr id="62" name="Прямоугольник 7"/>
            <p:cNvSpPr/>
            <p:nvPr/>
          </p:nvSpPr>
          <p:spPr>
            <a:xfrm>
              <a:off x="3107880" y="0"/>
              <a:ext cx="6143760" cy="6858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рямоугольник 2"/>
            <p:cNvSpPr/>
            <p:nvPr/>
          </p:nvSpPr>
          <p:spPr>
            <a:xfrm>
              <a:off x="0" y="0"/>
              <a:ext cx="4357800" cy="6858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Скругленный прямоугольник 3"/>
            <p:cNvSpPr/>
            <p:nvPr/>
          </p:nvSpPr>
          <p:spPr>
            <a:xfrm>
              <a:off x="282600" y="857160"/>
              <a:ext cx="8672040" cy="5853240"/>
            </a:xfrm>
            <a:prstGeom prst="roundRect">
              <a:avLst>
                <a:gd name="adj" fmla="val 965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Рисунок 4" descr="Многоцв_полн_монохр.bmp"/>
            <p:cNvPicPr/>
            <p:nvPr/>
          </p:nvPicPr>
          <p:blipFill>
            <a:blip r:embed="rId1"/>
            <a:stretch/>
          </p:blipFill>
          <p:spPr>
            <a:xfrm>
              <a:off x="97920" y="66600"/>
              <a:ext cx="780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5"/>
            <p:cNvSpPr/>
            <p:nvPr/>
          </p:nvSpPr>
          <p:spPr>
            <a:xfrm>
              <a:off x="499320" y="0"/>
              <a:ext cx="3048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129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Oval 76"/>
          <p:cNvSpPr/>
          <p:nvPr/>
        </p:nvSpPr>
        <p:spPr>
          <a:xfrm>
            <a:off x="8567640" y="6497640"/>
            <a:ext cx="576360" cy="3603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2"/>
          <p:cNvSpPr/>
          <p:nvPr/>
        </p:nvSpPr>
        <p:spPr>
          <a:xfrm>
            <a:off x="395280" y="836640"/>
            <a:ext cx="806436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епартамент ТЭК и ЖКХ Костромской области  ежеквартально проводит заседания рабочей группы при заместителе губернатора Костромской области Н.Р. Подкопаевой и представляет информацию контрольно-надзорных органов по установленным нарушениям в сфере ЖКХ в Аппарат Полномочного представителя Президента РФ в Центральном  Федеральном округ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0"/>
          <p:cNvSpPr/>
          <p:nvPr/>
        </p:nvSpPr>
        <p:spPr>
          <a:xfrm>
            <a:off x="4356000" y="0"/>
            <a:ext cx="49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3"/>
          <p:cNvGrpSpPr/>
          <p:nvPr/>
        </p:nvGrpSpPr>
        <p:grpSpPr>
          <a:xfrm>
            <a:off x="0" y="0"/>
            <a:ext cx="9251640" cy="6858000"/>
            <a:chOff x="0" y="0"/>
            <a:chExt cx="9251640" cy="6858000"/>
          </a:xfrm>
        </p:grpSpPr>
        <p:sp>
          <p:nvSpPr>
            <p:cNvPr id="71" name="Прямоугольник 7"/>
            <p:cNvSpPr/>
            <p:nvPr/>
          </p:nvSpPr>
          <p:spPr>
            <a:xfrm>
              <a:off x="3107880" y="0"/>
              <a:ext cx="6143760" cy="6858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оугольник 2"/>
            <p:cNvSpPr/>
            <p:nvPr/>
          </p:nvSpPr>
          <p:spPr>
            <a:xfrm>
              <a:off x="0" y="0"/>
              <a:ext cx="4357800" cy="6858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Скругленный прямоугольник 3"/>
            <p:cNvSpPr/>
            <p:nvPr/>
          </p:nvSpPr>
          <p:spPr>
            <a:xfrm>
              <a:off x="282600" y="857160"/>
              <a:ext cx="8672040" cy="5853240"/>
            </a:xfrm>
            <a:prstGeom prst="roundRect">
              <a:avLst>
                <a:gd name="adj" fmla="val 965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Рисунок 4" descr="Многоцв_полн_монохр.bmp"/>
            <p:cNvPicPr/>
            <p:nvPr/>
          </p:nvPicPr>
          <p:blipFill>
            <a:blip r:embed="rId1"/>
            <a:stretch/>
          </p:blipFill>
          <p:spPr>
            <a:xfrm>
              <a:off x="97920" y="66600"/>
              <a:ext cx="780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Box 5"/>
            <p:cNvSpPr/>
            <p:nvPr/>
          </p:nvSpPr>
          <p:spPr>
            <a:xfrm>
              <a:off x="499320" y="0"/>
              <a:ext cx="3048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129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Oval 76"/>
          <p:cNvSpPr/>
          <p:nvPr/>
        </p:nvSpPr>
        <p:spPr>
          <a:xfrm>
            <a:off x="8567640" y="6497640"/>
            <a:ext cx="576360" cy="3603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2"/>
          <p:cNvSpPr/>
          <p:nvPr/>
        </p:nvSpPr>
        <p:spPr>
          <a:xfrm>
            <a:off x="468360" y="836640"/>
            <a:ext cx="8207280" cy="57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трольными мероприятиями ТУ Росфиннадзора по Костромской области охвачено 12 организаций, в том числе 4 управляющие компан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ходе проверочных мероприятий  выявлено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завышение сметной стоимости работ на сумму 178 тыс.руб.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вышение объемов выполненных работ – на сумму 102,9 тыс.руб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лечение денежных средств с целевого счёта для оплаты текущих расходов в сумме 4250 тыс.руб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ругие финансовые нарушения (отсутствие заключений госэкспертизы на сметную документацию, дополнительных соглашений к договорам подряда, неиспользование права на взыскание неустойки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Установлены следующие нефинансовые нарушения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рушение сроков и порядка перечисления денежных средств Фонда и областного бюджета (166 млн.руб.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числение авансовых платежей,  в размере превышающем 30%, процедур проведения открытого конкурса, невыполнение условий софинансирования собственниками, (43 млн.руб.)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нарушение сроков выполнения работ (4 млн.руб.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4356000" y="0"/>
            <a:ext cx="49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3"/>
          <p:cNvGrpSpPr/>
          <p:nvPr/>
        </p:nvGrpSpPr>
        <p:grpSpPr>
          <a:xfrm>
            <a:off x="-108000" y="0"/>
            <a:ext cx="9251640" cy="6858000"/>
            <a:chOff x="-108000" y="0"/>
            <a:chExt cx="9251640" cy="6858000"/>
          </a:xfrm>
        </p:grpSpPr>
        <p:sp>
          <p:nvSpPr>
            <p:cNvPr id="80" name="Прямоугольник 7"/>
            <p:cNvSpPr/>
            <p:nvPr/>
          </p:nvSpPr>
          <p:spPr>
            <a:xfrm>
              <a:off x="2999880" y="0"/>
              <a:ext cx="6143760" cy="6858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Прямоугольник 2"/>
            <p:cNvSpPr/>
            <p:nvPr/>
          </p:nvSpPr>
          <p:spPr>
            <a:xfrm>
              <a:off x="-108000" y="0"/>
              <a:ext cx="4357800" cy="6858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Скругленный прямоугольник 3"/>
            <p:cNvSpPr/>
            <p:nvPr/>
          </p:nvSpPr>
          <p:spPr>
            <a:xfrm>
              <a:off x="174600" y="857160"/>
              <a:ext cx="8672040" cy="5853240"/>
            </a:xfrm>
            <a:prstGeom prst="roundRect">
              <a:avLst>
                <a:gd name="adj" fmla="val 965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Рисунок 4" descr="Многоцв_полн_монохр.bmp"/>
            <p:cNvPicPr/>
            <p:nvPr/>
          </p:nvPicPr>
          <p:blipFill>
            <a:blip r:embed="rId1"/>
            <a:stretch/>
          </p:blipFill>
          <p:spPr>
            <a:xfrm>
              <a:off x="-11160" y="66600"/>
              <a:ext cx="780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Box 5"/>
            <p:cNvSpPr/>
            <p:nvPr/>
          </p:nvSpPr>
          <p:spPr>
            <a:xfrm>
              <a:off x="391320" y="0"/>
              <a:ext cx="3048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129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Oval 76"/>
          <p:cNvSpPr/>
          <p:nvPr/>
        </p:nvSpPr>
        <p:spPr>
          <a:xfrm>
            <a:off x="8567640" y="6497640"/>
            <a:ext cx="576360" cy="3603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11"/>
          <p:cNvSpPr/>
          <p:nvPr/>
        </p:nvSpPr>
        <p:spPr>
          <a:xfrm>
            <a:off x="611280" y="1197000"/>
            <a:ext cx="78580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ами УМВД России по Костромской области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2"/>
          <p:cNvSpPr/>
          <p:nvPr/>
        </p:nvSpPr>
        <p:spPr>
          <a:xfrm>
            <a:off x="539640" y="2492280"/>
            <a:ext cx="7920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ыявлено 25 преступлений экономической направленности, совершенных в сфере жилищно-коммунального хозяйств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14"/>
          <p:cNvSpPr/>
          <p:nvPr/>
        </p:nvSpPr>
        <p:spPr>
          <a:xfrm>
            <a:off x="611280" y="4221000"/>
            <a:ext cx="770580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их 16 окончены производством, 14 направлены с обвинительным заключением в суд. По двум делам объём неправомерно использованных финансовых средств составил 887, тыс.руб. По 14- устанавливается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4427640" y="0"/>
            <a:ext cx="471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0" y="0"/>
            <a:ext cx="9251640" cy="6858000"/>
            <a:chOff x="0" y="0"/>
            <a:chExt cx="9251640" cy="6858000"/>
          </a:xfrm>
        </p:grpSpPr>
        <p:sp>
          <p:nvSpPr>
            <p:cNvPr id="91" name="Прямоугольник 7"/>
            <p:cNvSpPr/>
            <p:nvPr/>
          </p:nvSpPr>
          <p:spPr>
            <a:xfrm>
              <a:off x="3107880" y="0"/>
              <a:ext cx="6143760" cy="6858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Прямоугольник 2"/>
            <p:cNvSpPr/>
            <p:nvPr/>
          </p:nvSpPr>
          <p:spPr>
            <a:xfrm>
              <a:off x="0" y="0"/>
              <a:ext cx="4357800" cy="6858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Скругленный прямоугольник 3"/>
            <p:cNvSpPr/>
            <p:nvPr/>
          </p:nvSpPr>
          <p:spPr>
            <a:xfrm>
              <a:off x="282600" y="857160"/>
              <a:ext cx="8672040" cy="5853240"/>
            </a:xfrm>
            <a:prstGeom prst="roundRect">
              <a:avLst>
                <a:gd name="adj" fmla="val 965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Рисунок 4" descr="Многоцв_полн_монохр.bmp"/>
            <p:cNvPicPr/>
            <p:nvPr/>
          </p:nvPicPr>
          <p:blipFill>
            <a:blip r:embed="rId1"/>
            <a:stretch/>
          </p:blipFill>
          <p:spPr>
            <a:xfrm>
              <a:off x="97920" y="66600"/>
              <a:ext cx="780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5"/>
            <p:cNvSpPr/>
            <p:nvPr/>
          </p:nvSpPr>
          <p:spPr>
            <a:xfrm>
              <a:off x="499320" y="0"/>
              <a:ext cx="3048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129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Oval 76"/>
          <p:cNvSpPr/>
          <p:nvPr/>
        </p:nvSpPr>
        <p:spPr>
          <a:xfrm>
            <a:off x="8567640" y="6497640"/>
            <a:ext cx="576360" cy="3603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2"/>
          <p:cNvSpPr/>
          <p:nvPr/>
        </p:nvSpPr>
        <p:spPr>
          <a:xfrm>
            <a:off x="395280" y="836640"/>
            <a:ext cx="8064360" cy="55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Департаментом государственного регулирования цен  и тарифов Костромской области в 2012 г. осуществлены проверки в отношении 3 организаций коммунального комплекс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о итогам проверок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директор  МУП «Коммунсервис» (осуществление деятельности по неустановленным в соответствии с действующим законодательством тарифам ) наказан в виде административного штрафа в размере 50 тыс.руб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4356000" y="0"/>
            <a:ext cx="49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3"/>
          <p:cNvGrpSpPr/>
          <p:nvPr/>
        </p:nvGrpSpPr>
        <p:grpSpPr>
          <a:xfrm>
            <a:off x="0" y="0"/>
            <a:ext cx="9251640" cy="6858000"/>
            <a:chOff x="0" y="0"/>
            <a:chExt cx="9251640" cy="6858000"/>
          </a:xfrm>
        </p:grpSpPr>
        <p:sp>
          <p:nvSpPr>
            <p:cNvPr id="100" name="Прямоугольник 7"/>
            <p:cNvSpPr/>
            <p:nvPr/>
          </p:nvSpPr>
          <p:spPr>
            <a:xfrm>
              <a:off x="3107880" y="0"/>
              <a:ext cx="6143760" cy="6858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2"/>
            <p:cNvSpPr/>
            <p:nvPr/>
          </p:nvSpPr>
          <p:spPr>
            <a:xfrm>
              <a:off x="0" y="0"/>
              <a:ext cx="4357800" cy="6858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Скругленный прямоугольник 3"/>
            <p:cNvSpPr/>
            <p:nvPr/>
          </p:nvSpPr>
          <p:spPr>
            <a:xfrm>
              <a:off x="282600" y="857160"/>
              <a:ext cx="8672040" cy="5853240"/>
            </a:xfrm>
            <a:prstGeom prst="roundRect">
              <a:avLst>
                <a:gd name="adj" fmla="val 965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Рисунок 4" descr="Многоцв_полн_монохр.bmp"/>
            <p:cNvPicPr/>
            <p:nvPr/>
          </p:nvPicPr>
          <p:blipFill>
            <a:blip r:embed="rId1"/>
            <a:stretch/>
          </p:blipFill>
          <p:spPr>
            <a:xfrm>
              <a:off x="97920" y="66600"/>
              <a:ext cx="780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5"/>
            <p:cNvSpPr/>
            <p:nvPr/>
          </p:nvSpPr>
          <p:spPr>
            <a:xfrm>
              <a:off x="499320" y="0"/>
              <a:ext cx="3048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129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0"/>
          <p:cNvSpPr/>
          <p:nvPr/>
        </p:nvSpPr>
        <p:spPr>
          <a:xfrm>
            <a:off x="539640" y="982440"/>
            <a:ext cx="80647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Контрольно-счетной палатой Костромской области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дена проверка соблюдения законодательства РФ, в т.ч. Федерального закона № 185-ФЗ в департаменте ЖКХ Костромской области и Администрации  г. Костромы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департаменте ЖКХ по итогам проверки отмечено нарушение сроков финансирования. В связи с продлением срока реализации программы до 1.01.2013 г. предложения по результатам контрольного мероприятия не вносились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итогам проверки в Администрации г. Костромы отмечено несоблюдение процедуры конкурсного отбора подрядных организаций, выполнение видов работ по капитальному ремонту МКД не предусмотренных 185-ФЗ, низкое качество  выполнения работ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6"/>
          <p:cNvSpPr/>
          <p:nvPr/>
        </p:nvSpPr>
        <p:spPr>
          <a:xfrm>
            <a:off x="8567640" y="6497640"/>
            <a:ext cx="576360" cy="3603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3"/>
          <p:cNvGrpSpPr/>
          <p:nvPr/>
        </p:nvGrpSpPr>
        <p:grpSpPr>
          <a:xfrm>
            <a:off x="-108000" y="0"/>
            <a:ext cx="9251640" cy="6858000"/>
            <a:chOff x="-108000" y="0"/>
            <a:chExt cx="9251640" cy="6858000"/>
          </a:xfrm>
        </p:grpSpPr>
        <p:sp>
          <p:nvSpPr>
            <p:cNvPr id="108" name="Прямоугольник 7"/>
            <p:cNvSpPr/>
            <p:nvPr/>
          </p:nvSpPr>
          <p:spPr>
            <a:xfrm>
              <a:off x="2999880" y="0"/>
              <a:ext cx="6143760" cy="6858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оугольник 2"/>
            <p:cNvSpPr/>
            <p:nvPr/>
          </p:nvSpPr>
          <p:spPr>
            <a:xfrm>
              <a:off x="-108000" y="0"/>
              <a:ext cx="4357800" cy="6858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Скругленный прямоугольник 3"/>
            <p:cNvSpPr/>
            <p:nvPr/>
          </p:nvSpPr>
          <p:spPr>
            <a:xfrm>
              <a:off x="174600" y="857160"/>
              <a:ext cx="8672040" cy="5853240"/>
            </a:xfrm>
            <a:prstGeom prst="roundRect">
              <a:avLst>
                <a:gd name="adj" fmla="val 965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Рисунок 4" descr="Многоцв_полн_монохр.bmp"/>
            <p:cNvPicPr/>
            <p:nvPr/>
          </p:nvPicPr>
          <p:blipFill>
            <a:blip r:embed="rId1"/>
            <a:stretch/>
          </p:blipFill>
          <p:spPr>
            <a:xfrm>
              <a:off x="-11160" y="66600"/>
              <a:ext cx="780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5"/>
            <p:cNvSpPr/>
            <p:nvPr/>
          </p:nvSpPr>
          <p:spPr>
            <a:xfrm>
              <a:off x="391320" y="0"/>
              <a:ext cx="3048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129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Oval 76"/>
          <p:cNvSpPr/>
          <p:nvPr/>
        </p:nvSpPr>
        <p:spPr>
          <a:xfrm>
            <a:off x="8567640" y="6497640"/>
            <a:ext cx="576360" cy="3603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11"/>
          <p:cNvSpPr/>
          <p:nvPr/>
        </p:nvSpPr>
        <p:spPr>
          <a:xfrm>
            <a:off x="755640" y="907920"/>
            <a:ext cx="771372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рганами прокуратуры Костромской области  за 2011-2012 годы в рамках проверки использования финансовых ресурсов в сфере ЖКХ выявлено 236 нарушений законодательства Российской Федерации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12"/>
          <p:cNvSpPr/>
          <p:nvPr/>
        </p:nvSpPr>
        <p:spPr>
          <a:xfrm>
            <a:off x="684360" y="3141720"/>
            <a:ext cx="7775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устранения которых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несено 117 представлений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51 должностное лицо привлечено к дисциплинарной ответственност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7 исков направлено в судебные органы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14"/>
          <p:cNvSpPr/>
          <p:nvPr/>
        </p:nvSpPr>
        <p:spPr>
          <a:xfrm>
            <a:off x="684360" y="5013360"/>
            <a:ext cx="7775280" cy="151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прокурорских проверок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буждено уголовных дел :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 2011 году  - 13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 1 полугодии  2012 г.  - 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4427640" y="0"/>
            <a:ext cx="471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13"/>
          <p:cNvGrpSpPr/>
          <p:nvPr/>
        </p:nvGrpSpPr>
        <p:grpSpPr>
          <a:xfrm>
            <a:off x="0" y="0"/>
            <a:ext cx="9251640" cy="6858000"/>
            <a:chOff x="0" y="0"/>
            <a:chExt cx="9251640" cy="6858000"/>
          </a:xfrm>
        </p:grpSpPr>
        <p:sp>
          <p:nvSpPr>
            <p:cNvPr id="119" name="Прямоугольник 7"/>
            <p:cNvSpPr/>
            <p:nvPr/>
          </p:nvSpPr>
          <p:spPr>
            <a:xfrm>
              <a:off x="3107880" y="0"/>
              <a:ext cx="6143760" cy="6858000"/>
            </a:xfrm>
            <a:prstGeom prst="rect">
              <a:avLst/>
            </a:prstGeom>
            <a:solidFill>
              <a:srgbClr val="95b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Прямоугольник 2"/>
            <p:cNvSpPr/>
            <p:nvPr/>
          </p:nvSpPr>
          <p:spPr>
            <a:xfrm>
              <a:off x="0" y="0"/>
              <a:ext cx="4357800" cy="6858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Скругленный прямоугольник 3"/>
            <p:cNvSpPr/>
            <p:nvPr/>
          </p:nvSpPr>
          <p:spPr>
            <a:xfrm>
              <a:off x="282600" y="857160"/>
              <a:ext cx="8672040" cy="5853240"/>
            </a:xfrm>
            <a:prstGeom prst="roundRect">
              <a:avLst>
                <a:gd name="adj" fmla="val 965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Рисунок 4" descr="Многоцв_полн_монохр.bmp"/>
            <p:cNvPicPr/>
            <p:nvPr/>
          </p:nvPicPr>
          <p:blipFill>
            <a:blip r:embed="rId1"/>
            <a:stretch/>
          </p:blipFill>
          <p:spPr>
            <a:xfrm>
              <a:off x="97920" y="66600"/>
              <a:ext cx="7804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5"/>
            <p:cNvSpPr/>
            <p:nvPr/>
          </p:nvSpPr>
          <p:spPr>
            <a:xfrm>
              <a:off x="499320" y="0"/>
              <a:ext cx="30484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1296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324000" y="981000"/>
          <a:ext cx="8497800" cy="5813640"/>
        </p:xfrm>
        <a:graphic>
          <a:graphicData uri="http://schemas.openxmlformats.org/drawingml/2006/table">
            <a:tbl>
              <a:tblPr/>
              <a:tblGrid>
                <a:gridCol w="342720"/>
                <a:gridCol w="1314360"/>
                <a:gridCol w="1117800"/>
                <a:gridCol w="3346200"/>
                <a:gridCol w="2376720"/>
              </a:tblGrid>
              <a:tr h="173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рганизации, допустившей неправомерное расходование средст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неправомерно использованных финансовых средств в 2009-2012 годах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и существо выявленных нарушен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ые процессуальные решения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правляющие компан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УК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комсерви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 Мантуров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 ру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ышение должностных полномочий при осуществлении расчетов со стороны руководителя УК Стукалова Д.А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5531 возбужденное 10.02.2011 г. по ч.1 ст. 201 УК РФ 21.04.2011 г. направленно с обвинительным заключением в суд. По результатам рассмотрения в суде, уголовное дело было прекращено за примирением сторон. Стукалов Д.А. материальный ущерб возместил полностью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УК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ко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вис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Мантурово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предприятия Стукалов Д.А. используя служебное положение, составил фиктивные акты выполненных работ, по которым получил денежные средства в сумме 43,4 тыс. руб. предназначенные для выплаты гражданам.  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 дело      №5640 возбужденное 26.07.2011 г.по ч.2 ст. 165 УК РФ. В настоящее время дело находится в производстве.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УК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ождение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 Костром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ными лицами ООО УК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ождение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чинен имущественный ущерб ОА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ГК-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сумму 10,5 млн. руб. в связи с неоплатой имеющейся кредиторской задолженности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62746 возбужденное 13.11. 2011г. по ч. 3 ст. 165 УК РФ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О УК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билейный 2007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. Кострома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авливается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ными лицами ООО УК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билейный 2007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ыли превышены должностные полномочия в результате чего причинен имущественный ущерб ОАО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ГК-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сумму 19,9 млн. руб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оловное дело № 55492 возбужденно 11.11.2011г. по ч.1 ст. 201 УК РФ.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Oval 76"/>
          <p:cNvSpPr/>
          <p:nvPr/>
        </p:nvSpPr>
        <p:spPr>
          <a:xfrm>
            <a:off x="8567640" y="6497640"/>
            <a:ext cx="576360" cy="360360"/>
          </a:xfrm>
          <a:prstGeom prst="ellipse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1:38:17Z</dcterms:created>
  <dc:creator>osokin</dc:creator>
  <dc:description/>
  <dc:language>en-US</dc:language>
  <cp:lastModifiedBy>N8850</cp:lastModifiedBy>
  <dcterms:modified xsi:type="dcterms:W3CDTF">2012-11-12T16:01:36Z</dcterms:modified>
  <cp:revision>255</cp:revision>
  <dc:subject/>
  <dc:title>Слайд 1</dc:title>
</cp:coreProperties>
</file>